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FC4-5E76-4F3A-B27D-8DED3FA0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979-7983-43DE-BCDF-C339CAA9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E6D-218D-43CE-BFB1-1F6E2870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AA9-C278-4609-8503-E88BA42E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334-ADD1-4BEA-8111-F354B151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65E-8F72-42D0-87A6-BCC0DCEB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22A-7BDD-438D-A881-42CC9994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634-EAD2-4CC7-A490-170A11AC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E56-2549-4AD6-8340-AFE2E461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DA6A-101F-4588-8245-D75DD842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514-8BD9-4E5D-88EB-BCD4724B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B5B-0A67-4C7C-9080-94C3C623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028E-DBD3-4E76-AE9A-9E9F730AF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80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3:39:16Z</dcterms:created>
  <dc:creator>Sergey</dc:creator>
  <dc:description/>
  <dc:language>en-US</dc:language>
  <cp:lastModifiedBy>Sergey</cp:lastModifiedBy>
  <dcterms:modified xsi:type="dcterms:W3CDTF">2013-03-17T13:45:42Z</dcterms:modified>
  <cp:revision>2</cp:revision>
  <dc:subject/>
  <dc:title>Слайд 1</dc:title>
</cp:coreProperties>
</file>